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FAB-710C-4A00-90CE-74C00087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3D2-303C-48DA-A0D9-6C4231C1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C77B5-94EA-4939-A949-09FFD9F8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96A09-DD29-4A99-8560-F531FD8F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EBF0B-B2EA-48B9-8C37-44FC8EC1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F3518-5E91-4FDD-AFBF-66B0ECBD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AA679-9B71-4FAB-AFD2-2BF7C9C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C703E-0580-4703-BC61-DE30185C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CB398-A8C4-4B3D-A798-DE74D528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BD2AB-DADE-4E85-8C84-0440FC5D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790C3-2201-487B-AC40-0CC35659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BC846-2EAA-42D6-BF9F-382EF844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DFC-E8BE-4D88-AFB4-6EF140B9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EBF93-8297-4B26-BEAE-F4E56FD9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B4252-C513-4B58-BDA4-42450CA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B1562-6B47-40A1-876E-7C38AD8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A3E65-F687-48CC-8B1D-2FF54C4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FA3E7-1AF2-4AEB-A07B-8EC5551D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CD012-57E2-4FBE-9296-489C04F6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828FA-4888-4E9D-AB46-CD885218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F07D4-983D-4917-A790-92E77ECE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B2E49-4FB5-491D-8518-6F4146DA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263EF-1820-480E-8D77-0B67FAF0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112-1BD7-460A-8DE7-55DAE6DD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4E15B-8E64-4F48-9556-784C538C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BABC5-7581-4D7A-8F9F-3C5F5CBA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1CBA5-FFEE-4EE5-BD39-2D7D773E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AEF7E-9E40-4DBF-A02F-B85952E6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CE55D-FD5D-46A4-8693-03E91D1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D3657-1B64-412C-94C6-DFA5221C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A6963-5BCD-4DAE-8453-0504F5F7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5FB1A-47C1-410E-8DA1-B51B1E5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8FE93-90E1-4191-AF88-C9F3710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6021B-8DE7-4E4D-B9E1-B94A454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F8FC-CA85-4916-A1E6-97D4D4BE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C58C1-4747-4436-A37E-BB612CA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051D2-40F8-45BF-B588-FE72A8B5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0EF6A-E500-4031-A48E-FFEB6636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417CE-D24B-4953-A6A8-E77C6FB5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AABA2-E598-47DB-ADB8-E33DB08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2DA23-2E2C-4564-AB4E-9259D850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EB71E-2218-4EE4-AAA9-831E13F5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5F9DA-92DE-4490-B90F-32ACF666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9E84E-9491-44EF-A9E8-C39C9B13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B1B62-42E1-4215-BA12-1909AB8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FB3C-E2B8-4FAC-BC83-166676A8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6D867-130D-4E85-99B0-942144C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17319-C26A-44E9-8825-61CBC6F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EE05B-BDDE-4978-9BF2-A4F036D4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7EC0E-6E0B-4771-AA34-61C3E374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E3776-38CE-4EB7-AEEE-2B0C486B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4A0-44B9-4322-9C89-5DB2B0E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D8A4-FE96-4833-8F31-4EA4797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7555-72C0-4F09-B350-8D89566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D776-5049-4949-BCEA-3C11E694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BF83-FE56-4358-9440-C915C07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172-42BB-40FA-8DEA-4E80EAFD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63B3-4261-47BD-AFF2-058F10D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383A-67A7-4125-9438-EDB61DD2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E9C-E49F-4FC6-980A-3753FCFE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0E98-D295-424E-B730-5E0E161B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F404-B1EE-40A2-AC35-5EDD6022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C647-F638-450D-90A8-966DFD50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80A3-04B0-473C-83F6-3DDB9ED3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3758-4B49-4F22-ABC8-E104B580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5052-1507-4073-9701-913CDAD3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3FF9-8722-4CE9-A137-4B01C64F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FA6-F3BE-456B-BB08-A2844E68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06E5-B1B8-4EEB-96CE-E9A5608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8D5F-EA1D-4068-9AF7-AED626B1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EFD0-EA21-4D69-A0DE-D773666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ED28-10EF-45DB-BDE6-23A6C235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EC27-B1F6-41B1-8E11-A41DC07D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149B-AA17-414B-A171-6160A8F7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BD89-9BA5-45B6-8A8A-C4D65EBA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A37DA-6043-4DEF-9B50-DCCE7E84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EAD1-2F02-457B-943B-B83C2526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64F8-9AE8-40BA-AFEE-5C571D8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017-2E53-4237-92B5-75E0640F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C298E-7920-4204-AC0F-AC8A8137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04B1-DC3D-4ED8-ABCB-31D2CE0A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AF01-559F-42D2-A793-0ED4DA89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8801-76F1-475E-9E14-E36C70EB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4373-6091-4B4C-B8A1-D76BF98A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7C203-6707-4F66-8C4B-7051532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DBC4A-B8F6-432A-A3AC-315EB4AC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2F17-57CC-4255-8642-F7AF9A0D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9EE1-7564-4A34-BF17-73F229C5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5D070-8506-4CC8-9BFA-A3E0FB60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6BD-E6D3-4FAC-B568-AF85D1A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CA8D-A902-4D28-9D02-CB7C78CB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8823-284B-48B5-B8BA-B7B31439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97B98-A9A0-463C-8174-D657CEB7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8684-021C-4569-B15A-AC888297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2E55-040E-4EFB-B8D5-024A786E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54105-32D5-486C-9EDD-EF6BF398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B188-5373-4E5D-B691-8FEFC53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3F4F-21B4-4A00-BEA8-9264AE6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5D17-662F-48B1-A215-B50FB6CF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DDC56-8C54-49E7-9AAB-1130F795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EC3-4301-4146-85F5-2D0502D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65C9-C9B8-4C8B-B912-0E14C1E5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CD0B-AF89-48C1-8C9B-E2688C99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C1A71-E534-45AE-8724-FC2DE021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82B15-886E-479E-9C29-FDB7498C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D8559-78AD-4879-BBEF-9497FA4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3915-281B-4042-9F3F-3DCFECD3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4B08-856F-4055-B946-750FF3B7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7CD5-9FFC-4F1E-B039-645365E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4ED0-657B-456A-9C20-8875D798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77301-0283-41E3-ADF1-F2932261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81C-C0A3-4A5F-90D4-5C61EA1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8AE02-1A35-4CBF-A0AF-18AC8F87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737E-F23F-4197-A3DB-B6164C9D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C0C9-58BD-4112-9033-A903084D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E3583-2D09-4AF6-870A-0991C56A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660D2-B668-4A0B-85BE-305FEC1F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0F1AA-79C5-49AD-862E-6B491F54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EB34-78B5-4BFF-81AF-D437400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926E-5ACE-47FE-8FB8-8F64E40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84A61-D1A1-4733-AD94-F65DC6F6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3492-E116-4B5A-BDC4-D5A7171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222-5CC1-4907-BBFC-618F3AA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10D86-686D-47F3-BDF3-82622D0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4B4F4-FB3D-410A-9ACF-F0BE17C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0992E-2839-43A0-8B08-FA6AE25F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2A99-1AC2-47FC-A914-05D95CCA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38F63-A46A-4FE4-A2C4-2ED2055E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FBBE-0492-4EA8-AD98-A7A13A3E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7D7E5-9DA0-4A12-97A9-6A048AE9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78F4E-C958-4FC4-B91B-0374965D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6AEFC-5A8A-4134-ABC1-78BE513A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C0EBA-DB2E-47D4-A4A9-F78D66A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CC9-0F4B-4BE3-BC07-F1259A8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A6508-652F-4BA7-B59D-7E0CD00C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CFC1C-ED89-4043-9E03-993A079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B9EED-5B2E-4EEE-AD3D-36E3A25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A76A-B248-4F49-8F65-5678B43C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4BF20-2228-4698-8F17-E38ED25F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5C651-6B1F-4A63-888C-08B3160C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ABD3E-FA61-4B80-9C57-1B73F1CF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5FFCE-AE93-4019-B22A-B8E7A121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1EE70-79AD-49BC-9687-2CAE1EF5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E90AA-0FC7-4A4D-84DC-643757D4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AEF3-83E4-4A31-A795-6A356FCAFC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22A5-F4D8-4515-9E59-04938AB5A0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E7DC-3750-4B33-BC4F-539A11F636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8DC-ECEE-46DB-B623-E4BFCA73104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D597-1241-46B8-8FC4-45D540FC33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2AA6-0AC0-4571-9AEC-8BC9234EBB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3EB3-49AC-4393-99F3-CD9F954641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911-BD8A-4C58-BD32-591BE67DDA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FA8F-759A-496B-9369-0AB2AD4A8D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8B2F-A97E-45F6-BDA7-029F43ABF2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0B62-CFCB-4E2D-A388-F341BF9B21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DB3D-2F68-4212-A838-73CFD25048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0 Vďačne každý Boha chv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každý Boha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m všetko dobré d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ôvod všetkého je v ň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slove tvorivo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ie, chráni, živí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 nad nami v každý č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om, mysľou ctime 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cu všemohúceho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droj nášho život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22:27Z</dcterms:modified>
  <cp:revision>31</cp:revision>
  <dc:subject/>
  <dc:title>Je veľký náš Pán, on slávy je Kráľ Nech do všetkých strán  spev vrúcnych znie chvál.</dc:title>
</cp:coreProperties>
</file>